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8320" y="3802320"/>
            <a:ext cx="7194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508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832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508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23360" y="12949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8320" y="38023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840" y="38023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23360" y="3802320"/>
            <a:ext cx="2316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508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508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832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351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08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5080" y="38023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080" y="1294920"/>
            <a:ext cx="3510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8320" y="3802320"/>
            <a:ext cx="7194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e1fede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7840" indent="-26784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62760" indent="-2847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725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88200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992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992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992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20.xml"/><Relationship Id="rId6" Type="http://schemas.openxmlformats.org/officeDocument/2006/relationships/slide" Target="slide22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章  翻译软件与内码转换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3.1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金山词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13.2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金山快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13.3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内码转换工具——南极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3.2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浮动工具条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3290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金山快译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5867640" cy="625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0" y="4495680"/>
            <a:ext cx="4724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山快译浮动工具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990720" y="1433520"/>
          <a:ext cx="723888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33520"/>
                    <a:ext cx="723888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590920" y="76212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3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工具按钮的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2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快速简单翻译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打开要翻译的网页（或软件界面或文本文件）并使其处于激活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快译菜单条上的     按钮，此时将进行快速翻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要取消翻译，可以单击快译菜单条上的      按钮，取消全屏翻译恢复原文状态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4462560" y="33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457200" cy="417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40500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2.3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快速汉化软件界面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打开要汉化的软件，并使其处于激活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点击快译菜单条上的     按钮，此时软件界面将快速变成中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击快译菜单条上的    按钮，取消翻译恢复原始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4471920" y="3338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404640" cy="366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71920" y="3338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404640" cy="366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2.4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全文翻译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全文翻译一个文档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击浮动工具条上的“高质量全文翻译器”按钮，可打开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“金山全文翻译”窗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文翻译界面包括：菜单条、工具按钮条、翻译按钮条、文本显示区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具按钮条： 包括常用功能及设置按钮，它们是新建、打开、保存、剪贴、复制、粘贴、打印、设置、字典、批译、对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翻译按钮条 ：该条包括各种类型的翻译按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43280" y="2405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金山快译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38960" cy="327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502920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文翻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7194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批量全文翻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"/>
          <p:cNvSpPr/>
          <p:nvPr/>
        </p:nvSpPr>
        <p:spPr>
          <a:xfrm>
            <a:off x="3086280" y="2395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金山快译4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648320" cy="323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5486400"/>
            <a:ext cx="6096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原文文件和译文存储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86000" y="2624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金山快译3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272200" cy="3062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0" y="495288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批量翻译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19400" y="24192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金山快译5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4957920" cy="344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23880" y="5257800"/>
            <a:ext cx="6096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2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翻译引擎和翻译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57520" y="2395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金山快译6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943600" cy="320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43000" y="525780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3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翻译”对话框与“统计信息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3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金山词霸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13.1.1  词典查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13.1.2  屏幕取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13.1.3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用户字典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Unico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13.1.4  设置金山词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">
            <a:hlinkClick r:id="rId7" action="ppaction://hlinksldjump"/>
          </p:cNvPr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2.5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内码转换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689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转换单个文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转换多个文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9" name="金山快译7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3733920" cy="3697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3880" y="5257800"/>
            <a:ext cx="662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次开启“内码转换器”时选择保存文件的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86200" y="2933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金山快译10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396040" cy="1685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4419720"/>
            <a:ext cx="556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码转换器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2.6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永久汉化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19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永久汉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0" y="2486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金山快译11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95880" cy="2659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09680" y="5029200"/>
            <a:ext cx="464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永久汉化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还原汉化软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时需将汉化后的软件还原，可在汉化的软件列表中右键单击该软件，从快捷菜单中选择“还原”命令即可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7194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辑汉化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3062160" y="1962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金山快译12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010040" cy="389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69080" y="1981080"/>
            <a:ext cx="54612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汉化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2.7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写作助理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金山快译13" descr=""/>
          <p:cNvPicPr/>
          <p:nvPr/>
        </p:nvPicPr>
        <p:blipFill>
          <a:blip r:embed="rId1"/>
          <a:stretch/>
        </p:blipFill>
        <p:spPr>
          <a:xfrm>
            <a:off x="1363680" y="1447920"/>
            <a:ext cx="2317680" cy="2819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8080" y="474012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用金山英文写作助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4280" y="2709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金山快译14" descr=""/>
          <p:cNvPicPr/>
          <p:nvPr/>
        </p:nvPicPr>
        <p:blipFill>
          <a:blip r:embed="rId2"/>
          <a:stretch/>
        </p:blipFill>
        <p:spPr>
          <a:xfrm>
            <a:off x="4876920" y="1293840"/>
            <a:ext cx="3124080" cy="3003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800600" y="4648320"/>
            <a:ext cx="327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金山英文写作助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3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内码转换工具——南极星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13.3.1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黑体"/>
                <a:hlinkClick r:id="rId2" action="ppaction://hlinksldjump"/>
              </a:rPr>
              <a:t>内码转换基本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1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13.3.2 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黑体"/>
                <a:hlinkClick r:id="rId4" action="ppaction://hlinksldjump"/>
              </a:rPr>
              <a:t>内码转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3.3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内码转换基本概念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文字输入方面存在很大障碍，解决这一问题的最好办法是编制本国语言的代码。但是，在不同的语言编码之间的相互通信又存在问题。即使同样是汉字编码，如在大陆使用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和中国台湾使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G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码之间，也很难相互交换信息，而必须借助于相应的工具加以转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极星是众多内码转换工具中较为优秀的一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3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内码转换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将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网页转换为中国台湾使用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码来显示，步骤为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启动南极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网页成为当前窗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南极星浮动工具条上的第二个按钮，即内码转化类型设置按钮，弹出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的内码转化类型选择菜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菜单中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nese Big5 Traditional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转化后的网页参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-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33720" y="5334120"/>
            <a:ext cx="441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2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前的网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24200" y="2309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南极星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5576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52640" y="23144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金山词霸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648320" cy="301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495288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金山词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71960" y="2481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金山词霸2" descr=""/>
          <p:cNvPicPr/>
          <p:nvPr/>
        </p:nvPicPr>
        <p:blipFill>
          <a:blip r:embed="rId2"/>
          <a:stretch/>
        </p:blipFill>
        <p:spPr>
          <a:xfrm>
            <a:off x="5943600" y="1219320"/>
            <a:ext cx="1763640" cy="3343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91120" y="495288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捷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86280" y="2286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南极星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2538360" cy="49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885640" y="1447920"/>
            <a:ext cx="91188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2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码转换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71720" y="2338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南极星2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33840" cy="3485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33720" y="510552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2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后的网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086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Arial Black"/>
                <a:ea typeface="宋体"/>
              </a:rPr>
              <a:t>Thank you very much!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480" y="2438280"/>
            <a:ext cx="62042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10000"/>
              </a:lnSpc>
              <a:spcBef>
                <a:spcPts val="405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110000"/>
              </a:lnSpc>
              <a:spcBef>
                <a:spcPts val="405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">
            <a:hlinkClick r:id="" action="ppaction://hlinkshowjump?jump=endshow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3.1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词典查询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"/>
          <p:cNvSpPr/>
          <p:nvPr/>
        </p:nvSpPr>
        <p:spPr>
          <a:xfrm>
            <a:off x="2986200" y="2400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金山词霸3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557960" cy="2955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62320" y="4800600"/>
            <a:ext cx="4190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要查阅的单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86200" y="2400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金山词霸4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09112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4952880"/>
            <a:ext cx="4876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阅单词词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1.2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屏幕取词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"/>
          <p:cNvSpPr/>
          <p:nvPr/>
        </p:nvSpPr>
        <p:spPr>
          <a:xfrm>
            <a:off x="3629160" y="2967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金山词霸5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57800" cy="257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38280" y="495288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屏幕取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1.3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用户字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Unicom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3086280" y="2428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金山词霸6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52880" cy="333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43200" y="5105520"/>
            <a:ext cx="327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词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13.1.4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设置金山词霸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"/>
          <p:cNvSpPr/>
          <p:nvPr/>
        </p:nvSpPr>
        <p:spPr>
          <a:xfrm>
            <a:off x="3471840" y="2347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金山词霸7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690720" cy="3627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0" y="541008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山词霸设置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13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金山快译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8320" y="1294920"/>
            <a:ext cx="7194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2440" indent="-262440" algn="just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13.2.1  浮动工具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-262440" algn="just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13.2.2  快速简单翻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-262440" algn="just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13.2.3  快速汉化软件界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-262440" algn="just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13.2.4  全文翻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-262440" algn="just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13.2.5  内码转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-262440" algn="just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13.2.6  永久汉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62440" indent="-262440" algn="just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13.2.7  写作助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6372360"/>
            <a:ext cx="129528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5T11:13:42Z</dcterms:modified>
  <cp:revision>88</cp:revision>
  <dc:subject/>
  <dc:title>Module 7: Designing a Multiple Domain Structure</dc:title>
</cp:coreProperties>
</file>